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CD4-D952-4104-852D-D4B29EE6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F1A-7061-45AE-B453-4B14C09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508-7335-423F-B6F9-9CAC8209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E88-6894-45F4-93EB-7485151B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2956D-1126-49D2-B909-5EC99F643A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0AD1-03C2-40B7-802A-0CAFBB326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EBD61-1E0B-4F97-8BED-FCA5D57FD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60F6-1063-405F-AC68-2DC5142CD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38F83-0F80-41B1-9D44-25CE0393BC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EEB8-A2C8-4F98-8539-534E9126D4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1F1EA-BFF0-414C-AF7B-3B0939C2D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8C4-1FC0-4A1B-BCBE-AB90B39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C464-1873-464E-A468-1F5042397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F3D37-078B-4807-8767-F278DF477B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D9137-D452-497D-B22A-5AB4940557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7612-CDF2-4F8C-8917-A422BC5A4E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B7F9C-D69E-43A6-A34F-55733778B2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5155C-F7B0-4395-A64F-0DBCA579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C45F4-C8AE-477C-909B-543C12C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9446B-BF30-4330-A2B5-C7489F6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C2A5B-B08F-4066-899F-36AF530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9CA14-8279-482E-9D29-8E060D4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A6A-382D-47D6-947F-D514A952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3E1EF-2A9C-49A3-8771-6A3EEA23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E9B6E-2C3C-47CD-88DB-A821010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54464-A8B3-46EA-8D4B-B4FCFAD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626AE-A91F-446D-AF03-54EDF9D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F9AD8-AACE-468C-A963-41E970E5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647C3-6C1C-4EB7-82CF-7403206B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ABD0E-670A-4DF6-9514-5AA66519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490-B642-45C3-BB61-7503D811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1AFE2-3B7E-4C06-8857-C6700531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AFB-866A-46C5-B2C5-DE7D8E88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764D9-76D2-406D-8C1E-CCC8DC5F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B38E6-CA4A-411E-ADA9-AD98F1B7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53EC0-045F-49D7-9214-3C4C57E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C27FF-93BC-415C-ADC9-40C0467D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DF585-92AC-4FBC-B89F-803D209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0DBB0-2F05-4E0C-8F31-69774D7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A415D-45A3-4AB0-8A38-7BB0820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F8B98-4EE1-4825-B949-0145E2E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DE7AB-71F4-408C-9556-E192DC4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587CD-B80C-4E5F-AA1C-3E142D93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15C-3284-4539-97C8-40EA59E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99854-1F06-4037-8417-A04785EA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C69-18FD-4609-B067-FAAF783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7E7-6C8C-468F-9B02-23A04E3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411-C609-452C-8B86-AC6B238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B250-3734-4C8E-9136-409135CA6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1143000" y="640044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3ec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FF13-6161-48F4-8336-FB00A54892FF}" type="slidenum">
              <a:rPr b="0" lang="en-US" sz="1400" spc="-1" strike="noStrike">
                <a:solidFill>
                  <a:srgbClr val="f3ec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rmatShape" hidden="1"/>
          <p:cNvSpPr/>
          <p:nvPr/>
        </p:nvSpPr>
        <p:spPr>
          <a:xfrm>
            <a:off x="-8762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E80-D725-482C-B655-FEF99D7DF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8D1-1A3F-44E7-A71A-90C7439102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av.rds.yahoo.com/_ylt=A9ibyJxAqKFD.rEAz4SHBqMX;_ylu=X3oDMTBwanIybjRqBHBndANhdHdfaW1nX3Jlc3VsdARzZWMDc3I-/SIG=121gpo8lc/EXP=1134754240/**http://serbianlinks.freehosting.net/eagle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av.rds.yahoo.com/_ylt=A9ibyJxAqKFD.rEAz4SHBqMX;_ylu=X3oDMTBwanIybjRqBHBndANhdHdfaW1nX3Jlc3VsdARzZWMDc3I-/SIG=121gpo8lc/EXP=1134754240/**http://serbianlinks.freehosting.net/eagle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v.rds.yahoo.com/_ylt=A9ibyJ9.maFDFP0ANhyHBqMX;_ylu=X3oDMTBwanIybjRqBHBndANhdHdfaW1nX3Jlc3VsdARzZWMDc3I-/SIG=129t93uo4/EXP=1134750462/**http://www.kgt.de/projekte/klasse5b/frederik/Bomb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av.rds.yahoo.com/_ylt=A9ibyJ9.maFDFP0ANhyHBqMX;_ylu=X3oDMTBwanIybjRqBHBndANhdHdfaW1nX3Jlc3VsdARzZWMDc3I-/SIG=129t93uo4/EXP=1134750462/**http://www.kgt.de/projekte/klasse5b/frederik/Bomb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FWWarchdukeMe"/>
          <p:cNvPicPr/>
          <p:nvPr/>
        </p:nvPicPr>
        <p:blipFill>
          <a:blip r:embed="rId2"/>
          <a:stretch/>
        </p:blipFill>
        <p:spPr>
          <a:xfrm>
            <a:off x="3962520" y="1752480"/>
            <a:ext cx="5181480" cy="4610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FWWprincipP"/>
          <p:cNvPicPr/>
          <p:nvPr/>
        </p:nvPicPr>
        <p:blipFill>
          <a:blip r:embed="rId3"/>
          <a:stretch/>
        </p:blipFill>
        <p:spPr>
          <a:xfrm>
            <a:off x="380880" y="1447920"/>
            <a:ext cx="3422880" cy="5410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4"/>
          <p:cNvSpPr txBox="1"/>
          <p:nvPr/>
        </p:nvSpPr>
        <p:spPr>
          <a:xfrm>
            <a:off x="228600" y="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The Assassin and the Archdu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23" name="WordArt 15"/>
          <p:cNvSpPr txBox="1"/>
          <p:nvPr/>
        </p:nvSpPr>
        <p:spPr>
          <a:xfrm>
            <a:off x="304920" y="57150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Gavrilo Princip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shot"/>
          <p:cNvPicPr/>
          <p:nvPr/>
        </p:nvPicPr>
        <p:blipFill>
          <a:blip r:embed="rId1"/>
          <a:stretch/>
        </p:blipFill>
        <p:spPr>
          <a:xfrm>
            <a:off x="0" y="990720"/>
            <a:ext cx="5003640" cy="586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Franz"/>
          <p:cNvPicPr/>
          <p:nvPr/>
        </p:nvPicPr>
        <p:blipFill>
          <a:blip r:embed="rId2"/>
          <a:stretch/>
        </p:blipFill>
        <p:spPr>
          <a:xfrm>
            <a:off x="5280120" y="2666880"/>
            <a:ext cx="3863880" cy="4191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rrest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28908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9"/>
          <p:cNvSpPr txBox="1"/>
          <p:nvPr/>
        </p:nvSpPr>
        <p:spPr>
          <a:xfrm>
            <a:off x="228600" y="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Assassi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Kaiser Wilhelm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You will be home before the leaves have fallen from the trees!!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wilhelm2"/>
          <p:cNvPicPr/>
          <p:nvPr/>
        </p:nvPicPr>
        <p:blipFill>
          <a:blip r:embed="rId2"/>
          <a:stretch/>
        </p:blipFill>
        <p:spPr>
          <a:xfrm>
            <a:off x="4724280" y="1447920"/>
            <a:ext cx="3880080" cy="541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947-150x800-german-ww1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1200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947-150x800-german-ww1"/>
          <p:cNvPicPr/>
          <p:nvPr/>
        </p:nvPicPr>
        <p:blipFill>
          <a:blip r:embed="rId4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ttle of Verd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ngest and one of the bloodiest engagements of World War I.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ebruary 1916 – December 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million men were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ntention of the Germans had been a battle of attrition in which they hoped to bleed the French army w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end, they sustained almost as many casualties as the French; an estimated 328,000 to the French 348,00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947-150x800-german-ww1"/>
          <p:cNvPicPr/>
          <p:nvPr/>
        </p:nvPicPr>
        <p:blipFill>
          <a:blip r:embed="rId2"/>
          <a:stretch/>
        </p:blipFill>
        <p:spPr>
          <a:xfrm>
            <a:off x="7182000" y="0"/>
            <a:ext cx="1962000" cy="117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flag-fr"/>
          <p:cNvPicPr/>
          <p:nvPr/>
        </p:nvPicPr>
        <p:blipFill>
          <a:blip r:embed="rId3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Map 31.1: Major U.S. Operations in France, 1918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303200" y="649440"/>
            <a:ext cx="6537600" cy="555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pperplate Gothic Light"/>
              </a:rPr>
              <a:t>General Informatio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19320" y="19051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371600" y="19051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ed on July 28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ed on November 11,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371600" y="34290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8,000,000 dead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** Russia the most  = 1.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22,000,000 wounde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2120" y="5334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pperplate Gothic Light"/>
              </a:rPr>
              <a:t>Map of Europe greatly chang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Figure 31.1: Approximate Comparative Losses in World War I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41200" y="649440"/>
            <a:ext cx="8661600" cy="555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47640" indent="-647640"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hat was the job of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George Creel during the wa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is job was to sell America the w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reel tried to 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hip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up support for Wilson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 ide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elp US raise money to figh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h21GeorgeCreel"/>
          <p:cNvPicPr/>
          <p:nvPr/>
        </p:nvPicPr>
        <p:blipFill>
          <a:blip r:embed="rId1"/>
          <a:stretch/>
        </p:blipFill>
        <p:spPr>
          <a:xfrm>
            <a:off x="5638680" y="1600200"/>
            <a:ext cx="302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pp_us_09_sm"/>
          <p:cNvPicPr/>
          <p:nvPr/>
        </p:nvPicPr>
        <p:blipFill>
          <a:blip r:embed="rId1"/>
          <a:stretch/>
        </p:blipFill>
        <p:spPr>
          <a:xfrm>
            <a:off x="0" y="2362320"/>
            <a:ext cx="3032280" cy="3843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pp_us_16_sm"/>
          <p:cNvPicPr/>
          <p:nvPr/>
        </p:nvPicPr>
        <p:blipFill>
          <a:blip r:embed="rId2"/>
          <a:stretch/>
        </p:blipFill>
        <p:spPr>
          <a:xfrm>
            <a:off x="6205680" y="2133720"/>
            <a:ext cx="2938320" cy="426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pp_us_59_sm"/>
          <p:cNvPicPr/>
          <p:nvPr/>
        </p:nvPicPr>
        <p:blipFill>
          <a:blip r:embed="rId3"/>
          <a:stretch/>
        </p:blipFill>
        <p:spPr>
          <a:xfrm>
            <a:off x="2971800" y="0"/>
            <a:ext cx="336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ww1hun"/>
          <p:cNvPicPr/>
          <p:nvPr/>
        </p:nvPicPr>
        <p:blipFill>
          <a:blip r:embed="rId1"/>
          <a:stretch/>
        </p:blipFill>
        <p:spPr>
          <a:xfrm>
            <a:off x="1143000" y="1143000"/>
            <a:ext cx="367344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ww1bonds"/>
          <p:cNvPicPr/>
          <p:nvPr/>
        </p:nvPicPr>
        <p:blipFill>
          <a:blip r:embed="rId2"/>
          <a:stretch/>
        </p:blipFill>
        <p:spPr>
          <a:xfrm>
            <a:off x="4952880" y="0"/>
            <a:ext cx="3870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pperplate Gothic Light"/>
              </a:rPr>
              <a:t>Reasons for start of war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Extreme nationalism – pride in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Imp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Militarism – building up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Alliance system  - </a:t>
            </a:r>
            <a:r>
              <a:rPr b="1" lang="en-US" sz="3200" spc="-1" strike="noStrike">
                <a:solidFill>
                  <a:srgbClr val="ff0000"/>
                </a:solidFill>
                <a:latin typeface="Copperplate Gothic Light"/>
              </a:rPr>
              <a:t>&lt;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pperplate Gothic Light"/>
              </a:rPr>
              <a:t>KEY REASON</a:t>
            </a:r>
            <a:r>
              <a:rPr b="1" lang="en-US" sz="3200" spc="-1" strike="noStrike">
                <a:solidFill>
                  <a:srgbClr val="ff0000"/>
                </a:solidFill>
                <a:latin typeface="Copperplate Gothic Light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European powers formed rival alliances to protect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pperplate Gothic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pperplate Gothic Light"/>
              </a:rPr>
              <a:t>PROBLEM</a:t>
            </a:r>
            <a:r>
              <a:rPr b="1" lang="en-US" sz="3200" spc="-1" strike="noStrike">
                <a:solidFill>
                  <a:srgbClr val="ffff00"/>
                </a:solidFill>
                <a:latin typeface="Copperplate Gothic Light"/>
              </a:rPr>
              <a:t>?</a:t>
            </a: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  One event could drag all countries involved into a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Black Hand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in objective of the Black Hand was the creation, by means of violence, of a Greater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stated aim was: "To realize the national ideal, the unification of all Serbs. This organization prefers terrorist action to cultural activities; it will therefore remain secret."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1134"/>
          <p:cNvPicPr/>
          <p:nvPr/>
        </p:nvPicPr>
        <p:blipFill>
          <a:blip r:embed="rId2"/>
          <a:stretch/>
        </p:blipFill>
        <p:spPr>
          <a:xfrm>
            <a:off x="5029200" y="1371600"/>
            <a:ext cx="3898800" cy="548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23880" cy="1338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0"/>
            <a:ext cx="13716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Light"/>
              </a:rPr>
              <a:t>The spark that lit 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Light"/>
              </a:rPr>
              <a:t>the fus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event that started the Great War happened in the Balk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duke Franz Ferdinand (Austria) was assassinated while visiting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ack Hand was responsibl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Balkans"/>
          <p:cNvPicPr/>
          <p:nvPr/>
        </p:nvPicPr>
        <p:blipFill>
          <a:blip r:embed="rId4"/>
          <a:stretch/>
        </p:blipFill>
        <p:spPr>
          <a:xfrm>
            <a:off x="533520" y="4038480"/>
            <a:ext cx="8229600" cy="281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88400" y="0"/>
            <a:ext cx="1155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49Z</dcterms:created>
  <dc:creator>cltadmin</dc:creator>
  <dc:description/>
  <dc:language>en-US</dc:language>
  <cp:lastModifiedBy>Vickie J. Dean</cp:lastModifiedBy>
  <dcterms:modified xsi:type="dcterms:W3CDTF">2018-02-05T17:46:44Z</dcterms:modified>
  <cp:revision>31</cp:revision>
  <dc:subject/>
  <dc:title>Slide 1</dc:title>
</cp:coreProperties>
</file>